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4E5A-DBD8-4724-807C-DD527DB73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A225-EA1A-4BF1-BEA1-49D259DB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B2F3-8998-4A92-8CFF-FB2F2DD14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087C-E35C-4CD0-A5F1-7B4E243FE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5F2B-6DA9-4D11-AB2D-4198958D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2F0F-429D-4111-922C-97156341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852B-E0A2-4767-BFA8-2AC692D5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C680-A6D3-4EEE-913D-5787211D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EB49-BFB3-43B0-9C61-B15307CC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6E10-5C49-4985-9EA9-0DB207BE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15C2-C0ED-4F53-9425-234C59AC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A75B-89AA-4471-91B9-69B1A4B1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2119-60D9-4682-A26E-AE3ABB2EC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 Clase 6nh (602)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16 de mayo d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39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ién le examina a los pacien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he verbs SER &amp; ESTAR mean the same thing in English “to be”. What is the diff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65 (1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65 (1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65 (1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65 (1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 p. 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533520" y="3886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7T13:46:28Z</dcterms:created>
  <dc:creator>Helen Zumaeta</dc:creator>
  <dc:description/>
  <dc:language>en-US</dc:language>
  <cp:lastModifiedBy>Helen Zumaeta</cp:lastModifiedBy>
  <dcterms:modified xsi:type="dcterms:W3CDTF">2013-05-16T12:35:29Z</dcterms:modified>
  <cp:revision>17</cp:revision>
  <dc:subject/>
  <dc:title>Me llamo ________ Clase 7IM La fecha es el 27 de mayo del 2011</dc:title>
</cp:coreProperties>
</file>